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7F29-DEB6-4C64-89AD-C8F27D85CC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come, ok this is picaxe etc, from peru to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, so as this is my constantly developing project, I have some dev ideas for it, [click] First as I said earlier I want to change it into a better language, mainly so im not tied to windows. Then I have to fix some hardware bugs, [click] one of the biggest s that you only get 10-20% maximum power from the drive source, [click] I then want to add hardware inputs so that for example the system brings up a message when a button is pressed, and lastly [click] I want to add some more complex programmability to the system, so it can react to inputs and do things for a certain amount of time and then cha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Sorry for the time its taken and )[click]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, so first some apologies, [click] I am new to this and generally rubbish, so sorry for the suckyness, I am new to this. I wouldn’t be doing this if it wasn’t for elmo[click], next [click]sorry for the microsoftness, but ill come back to some of this later and just before I actually say something useful im[click] sorry if I go on for too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, in summer 2005 I went to peru[click], and being isolated from my computer I began to think[click] (scary thought)[click], I had a thought, wouldn’t It be cool to be able to control hornby trains with a computer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ith all my free time I started mentally prototyping[click] so by the time I got home a had a good idea how I was going to do it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 so I need to introduce picaxe, [click]picaxe is a standard PIC (Programmable Integrated Circuit) Chip preloaded with bootstrap code[click] to make it fluffy and easy for people to use, you build your interface circuit for your hardware and [click]use your serial port to download your program into the chip while it is in the circuit[click], programs are written in a basic like language [click] in the programming editor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 so it’s a simple language, as I said it has a basic like language,[click] with the same basic syntax, with additions, such as [click] high and [click]low, to surprise surprise , change the output high and low, and there are more complex commands, twho of which are [click] pwmout which allows sort of an analog ish output and [click] serin which allows input of serial data on a pin for example text from your computer terminal, there is also a serout command for doing the opposite of serin and printing to the remote 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, when I got back I started with hyper terminal [click] and some basic serin commands and some high and low commands so I could turn an led on and off from the terminal, [click] WOW (not the game), [click] Next I modifyed the serin to take an input so I could then use the pwm so I could set the brightness of the led, 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click] So then I added some transistors circuitry and a second power supply, and I have a variable speed motor controlled from my PC, [click] then I added a relay to control the direction and we get to my current circuit and pic program (or close enough) now it gets nasty as at the time the only language I knew with libraries to do what I needed was VB [click], so im sorry I am planning to change it to something better, probably java as that’s better and I know it and its platform independent 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ow I used some of the .net libraries, and [click] wrote a basic interface for the serial port with text boxes for speed and a tick box for direction, that worked!, then hacked with prototype 1 till it died, at which point I wrote prototype two, [click] that has things like error checking, transition checking, and it checks wheatear it is conned to the hardware, and has radio buttons and sliders for the direction a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 so then I added some threading so you can get smooth changes and things on a delay [click], and network support[click] so you don't have to connect the device to the control computer it can be connected to a remote machine and controlled over a network, [click] and its slowly getting whizz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C86-D6B9-4850-AC84-4797376B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422-0931-4D31-91B6-8D4B96D3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533-A9A7-4B00-B0B4-0FA3F3C2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9FF-27A9-47A8-964D-A402A7C7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AD24-36AF-46F8-8D9D-FA73DCD3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E5CB-2B31-43F1-B654-2E32AB3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DF5-E9EF-46D5-990F-7C1299A5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15D3-A83B-4B83-B352-BFF06175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3AAC-4067-4314-97E0-35D26051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E648-695D-4B56-83B0-A348EC0E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9D42-D951-4904-BCDE-BF55D9B0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A71-CFE1-4A7A-9815-2D329476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8CD1-7AD0-4185-99E8-3C490EEB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2D89-E0B5-4E8D-8C95-B2E7A258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634B-69E1-43F0-9049-C1BACEBF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3D9C-1C12-44DE-9F05-F180F0B0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2177-CA5B-4507-ADA6-48AC2A84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A5E-FBB7-4542-A6BD-DA69335F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156-E500-4E44-880F-2D81EA52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37E-9F71-4830-86A7-663DDEE2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FB3-6F81-4CE9-9004-A5E9F948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813-1900-431A-8C06-BC3C9E92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D63-A130-4DC0-80AF-7AF2AB3A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994-B46E-402B-BDC9-737A8AC4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72A1-B09D-4313-987C-B03A0D621F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3218-594D-4EA6-938D-EDC32A5C7B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CAXE etc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rom Peru to pres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m(othy) Clark (eclip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6870600" cy="63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Comic Sans MS"/>
              </a:rPr>
              <a:t>DEMO!</a:t>
            </a:r>
            <a:endParaRPr b="0" lang="en-US" sz="1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28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N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x transistor bu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input dete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major program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6870600" cy="63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ny Questions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olog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rry for the suckyness, I am new to this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rry for the microsoft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rry if I go on for too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927600" y="1828800"/>
            <a:ext cx="39276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Deepest Per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u 200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mmm computer contr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ime in deepest Peru = lots of things to do when I got 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127240" y="1881360"/>
            <a:ext cx="5162400" cy="401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341520" y="1925640"/>
            <a:ext cx="28879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onto PICAX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CAXE = PIC + Bootstra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CAXE = fluffy + cudd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load program in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IC like 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 Edi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9960" y="650880"/>
            <a:ext cx="69264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ASIC like synt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w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wmout 2, 100, w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in 3, N2400, b0, #w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tar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Termi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ial in + PW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0" y="677880"/>
            <a:ext cx="81709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182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19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 more circuitry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 even more circuitry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wwww Visual Ba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for the U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48200" y="2109960"/>
            <a:ext cx="3095640" cy="3095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90520" y="2000160"/>
            <a:ext cx="27622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w it gets whizz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23840" y="2109960"/>
            <a:ext cx="3095640" cy="3095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ooth 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to come y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08:46Z</dcterms:created>
  <dc:creator>Timothy Clark</dc:creator>
  <dc:description/>
  <dc:language>en-US</dc:language>
  <cp:lastModifiedBy>Tim</cp:lastModifiedBy>
  <dcterms:modified xsi:type="dcterms:W3CDTF">2008-02-04T02:39:25Z</dcterms:modified>
  <cp:revision>17</cp:revision>
  <dc:subject/>
  <dc:title>PICAXE etc</dc:title>
</cp:coreProperties>
</file>